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90D-BD1C-442B-887F-F6E90A32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5AA-1FD9-4FB1-980D-DB997243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A85-8FB5-4696-B188-751DDD0F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B9E-7C1A-44C8-8079-A5185BC0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8A5B-19E8-4A8C-91C8-50436040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45F5-3C07-437D-9EC8-C66DC89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6EA8-E4FE-4244-8024-F306A7FE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F553-EA58-442E-A2A4-0F7AC505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9EE1-6502-47BE-950A-FBBB6596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DBE8-7702-43B5-9912-45163AF8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9ED7-042A-4FE4-8FEE-EE42DABA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891-DA87-4D79-A2FB-946BC7DA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BA21-8EB6-4D3A-89A3-26870B0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03A5-0016-46B3-AEFD-B1DB450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E8D-CBD7-467F-82C6-1DD9F14B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0DCF-3366-4472-B129-54026398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2FC8-4AED-45C5-B066-42DF0174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645-1310-4CD7-8756-E8B4D183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B01-EA25-4A5F-8107-498F0A94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93D-7AE9-4940-BB70-F90EF7DB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D57-B62A-4297-B9C2-6F63DDF1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4AC-6466-409A-84E8-6972303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88B-BA68-43CE-8355-0A354AAE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EFE-4F95-4DD9-8AE7-B1D74EC7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A2F8-6C3A-434B-8D48-F9E72E161F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83E7-A099-4A8C-90BE-EBE8810833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h. 3 Lesson 2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uying Personal Produc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433520" cy="181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2109960" cy="2019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103400" cy="212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rot="20499600">
            <a:off x="3124080" y="419076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term quack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wo ways in which the information on product labels can help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warran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NOT reading a product’s label be danger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product will you buy?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Toothpa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1571760" cy="179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1962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cisions, Deci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(YOU) spend millions of dollars each year on personal products – shampoo, toothpaste, and skin cr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ies spend millions of dollars too – trying to convince you to buy their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you choose wise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igure 3.3 Choosing Personal Products Wisely p. 65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the product offer the results I am looking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product safe? Can it harm me – or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benefits can I realistically expect from the produ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product worth the price? Is there an equivalent product that costs l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sets the product apart from other, similar produ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 I used other items made by the same company? Was I satisfi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se Buy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ckery – the sale of worthless products and treatments through false clai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advertised in the mass media, sold through the mail, or offered over the 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akers claim that they cure or prevent diseases or other health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1304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oiding Quacke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at product claims that sound too good to be true usually are. Be especially careful of claims concerning beauty aids, diets, and “miracle”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be taken in by impressive sounding words, “secret ingredients” or glowing testimonials by unknown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ware of “free” samples for which you’re asked to send money to “cover shipping and handling cos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with your doctor or pharmacist before buying or using produc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24680" y="5181480"/>
            <a:ext cx="8938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ding Product Labels p. 6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elp you make safe use of the products you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 3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’s intend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in 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ions for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ufacturers name and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arison Shopp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habit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ison sho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ring products, evaluating their benefits, and choosing the products that offer the best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sider these factors when comparison shopping…p. 68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 Compare prices of the same brand in different s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atur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Avoid paying for features that you don’t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lit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 Well-made products generally outlast those that are poorly made. “You get what you pay fo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rrant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Before you buy a costly product, ask about the warran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7:44:50Z</dcterms:created>
  <dc:creator>GSCS</dc:creator>
  <dc:description/>
  <dc:language>en-US</dc:language>
  <cp:lastModifiedBy>GSCS</cp:lastModifiedBy>
  <dcterms:modified xsi:type="dcterms:W3CDTF">2010-10-04T17:37:19Z</dcterms:modified>
  <cp:revision>3</cp:revision>
  <dc:subject/>
  <dc:title>Ch. 3 Lesson 2: Buying Personal Products</dc:title>
</cp:coreProperties>
</file>